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8509F-DFE0-494A-8182-5D0B1CEF6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3CAD3-C667-46E2-A478-92C020DD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B9F0B-3A9A-44E1-8C1A-324B45607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D433F-A68B-457D-B2E0-59CF6D19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92B6E-FFF8-42BA-94AA-18B1921D7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B5879-30B3-40F0-97F8-AE9701EBA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1CC76-C9EB-42EA-8B56-37C10F430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1F11E-5E35-46E9-AAAE-9993E3299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39856-B0B2-4BB4-8329-59CC48DB2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BBE67-4F9E-47DA-839F-AAD073710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F64B0-9AEC-4ACC-92BB-814C21CAF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2EBD2-983E-47CE-ADF7-FA3578C8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5C33F-CF90-49CA-9AF0-F249D7630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A1D6B-2E29-4CB2-93F1-448A7D8FC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B0B1C-3B03-4DB0-8E8F-DD97903C4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22A30-C098-44D6-9F59-C14C93B2B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E517C-6893-4372-AD07-DB07145E0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F6E54-A211-4045-9F8D-B39D8E9C47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F0E0AA-588A-4B81-9BC1-F6440FD90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22DAF1-7E43-451C-BF97-26A8979E8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57854-F615-4398-A78B-075FC21AB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3B718D-B88F-4F0B-B255-DD2DA689C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55DC-0DDF-4E9B-A9E0-C2AB87DEF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65616-F40B-4C3D-B34F-366CEA08F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CFF89-FA52-4622-A81F-C64CCF9A7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10F53-1EB8-4D90-8DB3-9AD1F55A1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568A5-6A7A-4FF2-919D-3C0DEF5D1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B4885-329A-403C-B2CE-E1A740C5A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514302-F66F-483E-B891-0AF1AEA313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7DC3EB-8E85-405E-ADE0-22C0D9DE9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D754C-7841-483B-8856-81839D0CCC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41D6D-7681-4787-91B2-02A812A04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7844A-111E-4163-9499-FA61381EA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7E6EA-4FB3-402F-BCAB-19F668F0B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3CB48-820B-41DD-B343-3445F590B9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83408-01F7-48DA-B231-D702BC9E3B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019B9-FB90-4AAF-94AC-5887FA40E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3B035-9BC9-4F8C-A628-368ABC7CD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24B67-CDBA-42E0-A7E5-C4B2F6C6B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1B8E1-0DCD-499C-9FC6-248593DE8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8AB7A-7446-4571-BCF2-DC3BF91E6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28E11C-4F3D-4F85-9AE9-86C3F05B9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B4F258-582F-4031-8814-A29CB74257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3E7E2-8FB3-4CD2-BFD2-0414A3A67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5A14D-AF6B-493C-9A35-48A1D6E0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BB63-8826-4FB8-AC1D-8445085C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AC83-F837-4B73-BD6E-60DF724D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0140-19D7-4460-8C38-B6ACB61C1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406C-1084-4261-A525-0D9411AAF4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00FC-9432-4007-9807-902B8E7F4D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AD22-D670-4ED7-B072-1EADA15211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32"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2FC1-ECE9-4A55-880C-A331B45D8C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ailymotion.com/video/x3ujwe_the-vegetable-orchestra_musi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dailymotion.com/video/x25nh_music-for-one-apartment-and-six-dru" TargetMode="External"/><Relationship Id="rId2" Type="http://schemas.openxmlformats.org/officeDocument/2006/relationships/hyperlink" Target="http://tvo.wikispaces.com/musical+invaders"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UROPEAN DAY OF LANGUAGES</a:t>
            </a:r>
            <a:endParaRPr b="0" lang="en-US" sz="38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ptember 26, 200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8</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yce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SIC</a:t>
            </a:r>
            <a:endParaRPr b="0" lang="en-US" sz="4200" spc="-1" strike="noStrike">
              <a:solidFill>
                <a:srgbClr val="ffffff"/>
              </a:solidFill>
              <a:latin typeface="Arial"/>
            </a:endParaRPr>
          </a:p>
        </p:txBody>
      </p:sp>
      <p:sp>
        <p:nvSpPr>
          <p:cNvPr id="19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vocabular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history/origi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rumen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ori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oic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mpo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yl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yric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ng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usici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us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physic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	</a:t>
            </a:r>
            <a:r>
              <a:rPr b="1" lang="en-US" sz="2400" spc="-1" strike="noStrike">
                <a:solidFill>
                  <a:srgbClr val="000000"/>
                </a:solidFill>
                <a:latin typeface="Arial"/>
              </a:rPr>
              <a:t>love song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anatomy/brain reg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test songs</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riotic so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S</a:t>
            </a:r>
            <a:endParaRPr b="0" lang="en-US" sz="4200" spc="-1" strike="noStrike">
              <a:solidFill>
                <a:srgbClr val="ffffff"/>
              </a:solidFill>
              <a:latin typeface="Arial"/>
            </a:endParaRPr>
          </a:p>
        </p:txBody>
      </p:sp>
      <p:sp>
        <p:nvSpPr>
          <p:cNvPr id="1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kish</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ish in us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s and test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er observatio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essional developmen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chew ostrobogulosit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360"/>
            <a:ext cx="9144000" cy="6705720"/>
          </a:xfrm>
          <a:prstGeom prst="rect">
            <a:avLst/>
          </a:prstGeom>
          <a:noFill/>
          <a:ln w="0">
            <a:noFill/>
          </a:ln>
        </p:spPr>
        <p:txBody>
          <a:bodyPr lIns="90000" rIns="90000" tIns="46800" bIns="46800" anchor="t">
            <a:normAutofit fontScale="96000"/>
          </a:bodyPr>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hare everything.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lay fair.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on't hit people.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ut things back where you found them.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lean up your own mess.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on't take things that aren't yours.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ay you're sorry when you hurt somebody.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sh your hands before you eat.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lush.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rm cookies and cold milk are good for you.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ve a balanced life - learn some and think some and draw and paint and sing and dance and play and work every day some.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ake a nap every afternoon.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en you go out in the world, watch out for traffic, hold hands and stick together.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e aware of wonder. Remember the little seed in the Styrofoam cup: the roots go down and the plant goes up and nobody really knows how or why, but we are all like that.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ldfish and hamsters and white mice and even the little seed in the Styrofoam cup - they all die. So do we.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then remember the Dick-and-Jane books and the first word you learned - the biggest word of all - LOOK.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verything you need to know is in there somewhere. The Golden Rule and love and basic sanitation. Ecology and politics and equality and sane living.</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ake any one of those items and extrapolate it into sophisticated adult terms and apply it to your family life or your work or government or your world and it holds true and clear and firm. Think what a better world it would be if we all - the whole world - had cookies and milk at about 3 o'clock in the afternoon and then lay down with our blankies for a nap. Or if all governments had as a basic policy to always put things back where they found them and to clean up their own mess.</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it is still true, no matter how old you are, when you go out in the world, it is best to hold hands and stick together.</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 "ALL I REALLY NEED TO KNOW I LEARNED IN KINDERGARTEN" by Robert Fulghum.  See his web site at http://www.robertfulghum.com/  ]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ME FOR 2008-2009:</a:t>
            </a:r>
            <a:br>
              <a:rPr sz="3800"/>
            </a:br>
            <a:r>
              <a:rPr b="1" lang="en-US" sz="3800" spc="-1" strike="noStrike">
                <a:solidFill>
                  <a:srgbClr val="ffffff"/>
                </a:solidFill>
                <a:latin typeface="Arial"/>
              </a:rPr>
              <a:t>HUNGRY PLANET</a:t>
            </a:r>
            <a:endParaRPr b="0" lang="en-US" sz="3800" spc="-1" strike="noStrike">
              <a:solidFill>
                <a:srgbClr val="ffffff"/>
              </a:solidFill>
              <a:latin typeface="Arial"/>
            </a:endParaRPr>
          </a:p>
        </p:txBody>
      </p:sp>
      <p:sp>
        <p:nvSpPr>
          <p:cNvPr id="174"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we go from food to music?</a:t>
            </a:r>
            <a:endParaRPr b="0" lang="en-US" sz="2800" spc="-1" strike="noStrike">
              <a:solidFill>
                <a:srgbClr val="000000"/>
              </a:solidFill>
              <a:latin typeface="Arial"/>
            </a:endParaRPr>
          </a:p>
        </p:txBody>
      </p:sp>
      <p:pic>
        <p:nvPicPr>
          <p:cNvPr id="175" name="" descr=""/>
          <p:cNvPicPr/>
          <p:nvPr/>
        </p:nvPicPr>
        <p:blipFill>
          <a:blip r:embed="rId1"/>
          <a:stretch/>
        </p:blipFill>
        <p:spPr>
          <a:xfrm>
            <a:off x="4645080" y="2494080"/>
            <a:ext cx="3889440" cy="26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SIC</a:t>
            </a:r>
            <a:endParaRPr b="0" lang="en-US" sz="4200" spc="-1" strike="noStrike">
              <a:solidFill>
                <a:srgbClr val="ffffff"/>
              </a:solidFill>
              <a:latin typeface="Arial"/>
            </a:endParaRPr>
          </a:p>
        </p:txBody>
      </p:sp>
      <p:sp>
        <p:nvSpPr>
          <p:cNvPr id="17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vocabular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history/origi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rumen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ori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oic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mpo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yl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yric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ng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usici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us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physic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	</a:t>
            </a:r>
            <a:r>
              <a:rPr b="1" lang="en-US" sz="2400" spc="-1" strike="noStrike">
                <a:solidFill>
                  <a:srgbClr val="000000"/>
                </a:solidFill>
                <a:latin typeface="Arial"/>
              </a:rPr>
              <a:t>love song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anatomy/brain reg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test songs</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riotic so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a:r>
            <a:r>
              <a:rPr b="0" lang="en-US" sz="3800" spc="-1" strike="noStrike">
                <a:solidFill>
                  <a:srgbClr val="ffffff"/>
                </a:solidFill>
                <a:latin typeface="Arial"/>
              </a:rPr>
              <a:t>STOP (START?)</a:t>
            </a:r>
            <a:br>
              <a:rPr sz="3800"/>
            </a:br>
            <a:r>
              <a:rPr b="0" lang="en-US" sz="3800" spc="-1" strike="noStrike">
                <a:solidFill>
                  <a:srgbClr val="ffffff"/>
                </a:solidFill>
                <a:latin typeface="Arial"/>
              </a:rPr>
              <a:t>PLAYING WITH YOUR FOOD”</a:t>
            </a:r>
            <a:endParaRPr b="0" lang="en-US" sz="3800" spc="-1" strike="noStrike">
              <a:solidFill>
                <a:srgbClr val="ffffff"/>
              </a:solidFill>
              <a:latin typeface="Arial"/>
            </a:endParaRPr>
          </a:p>
        </p:txBody>
      </p:sp>
      <p:pic>
        <p:nvPicPr>
          <p:cNvPr id="179" name=""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OOD FOR THE SOUL?</a:t>
            </a: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www.dailymotion.com/video/x3ujwe_the-vegetable-orchestra_mus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vo.wikispaces.com/musical+veg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OOD FOR INVADERS?</a:t>
            </a:r>
            <a:endParaRPr b="0" lang="en-US" sz="4200" spc="-1" strike="noStrike">
              <a:solidFill>
                <a:srgbClr val="ffffff"/>
              </a:solidFill>
              <a:latin typeface="Arial"/>
            </a:endParaRPr>
          </a:p>
        </p:txBody>
      </p:sp>
      <p:sp>
        <p:nvSpPr>
          <p:cNvPr id="1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www.dailymotion.com/video/x25nh_music-for-one-apartment-and-six-dr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2"/>
              </a:rPr>
              <a:t>http://tvo.wikispaces.com/musical+inva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R OUT</a:t>
            </a:r>
            <a:r>
              <a:rPr b="0" lang="en-US" sz="4200" spc="-1" strike="noStrike">
                <a:solidFill>
                  <a:srgbClr val="ffffff"/>
                </a:solidFill>
                <a:latin typeface="Arial"/>
              </a:rPr>
              <a:t>	</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85"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 Laptop Cyber Orchest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533520" y="2590920"/>
            <a:ext cx="8001000" cy="3504960"/>
          </a:xfrm>
          <a:prstGeom prst="rect">
            <a:avLst/>
          </a:prstGeom>
          <a:ln w="0">
            <a:noFill/>
          </a:ln>
        </p:spPr>
      </p:pic>
      <p:pic>
        <p:nvPicPr>
          <p:cNvPr id="187" name="" descr=""/>
          <p:cNvPicPr/>
          <p:nvPr/>
        </p:nvPicPr>
        <p:blipFill>
          <a:blip r:embed="rId2"/>
          <a:stretch/>
        </p:blipFill>
        <p:spPr>
          <a:xfrm>
            <a:off x="5478480" y="601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38500"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5120" y="228600"/>
            <a:ext cx="1540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RTHER OUT</a:t>
            </a:r>
            <a:endParaRPr b="0" lang="en-US" sz="4200" spc="-1" strike="noStrike">
              <a:solidFill>
                <a:srgbClr val="ffffff"/>
              </a:solidFill>
              <a:latin typeface="Arial"/>
            </a:endParaRPr>
          </a:p>
        </p:txBody>
      </p:sp>
      <p:sp>
        <p:nvSpPr>
          <p:cNvPr id="189" name="PlaceHolder 2"/>
          <p:cNvSpPr>
            <a:spLocks noGrp="1"/>
          </p:cNvSpPr>
          <p:nvPr>
            <p:ph/>
          </p:nvPr>
        </p:nvSpPr>
        <p:spPr>
          <a:xfrm>
            <a:off x="609480" y="1599840"/>
            <a:ext cx="74678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nbell: Music fans can now play the Moon like a DJ spins a record, using a new online programme that generates melodies from its rugged surface.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ms.selene.jaxa.jp/selene_sok/index_en.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vo.wikispaces.com/MOONSTRU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atthew Moore</a:t>
            </a:r>
            <a:br>
              <a:rPr sz="2400"/>
            </a:br>
            <a:r>
              <a:rPr b="0" lang="en-US" sz="2400" spc="-1" strike="noStrike">
                <a:solidFill>
                  <a:srgbClr val="000000"/>
                </a:solidFill>
                <a:latin typeface="Arial"/>
              </a:rPr>
              <a:t>Published: 4:21PM BST 01 Sep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ILL WONDERS NEVER CEASE?</a:t>
            </a:r>
            <a:br>
              <a:rPr sz="3800"/>
            </a:br>
            <a:r>
              <a:rPr b="0" lang="en-US" sz="3800" spc="-1" strike="noStrike">
                <a:solidFill>
                  <a:srgbClr val="ffffff"/>
                </a:solidFill>
                <a:latin typeface="Arial"/>
              </a:rPr>
              <a:t>WILL, WONDERS NEVER CEASE!</a:t>
            </a:r>
            <a:endParaRPr b="0" lang="en-US" sz="3800" spc="-1" strike="noStrike">
              <a:solidFill>
                <a:srgbClr val="ffffff"/>
              </a:solidFill>
              <a:latin typeface="Arial"/>
            </a:endParaRPr>
          </a:p>
        </p:txBody>
      </p:sp>
      <p:pic>
        <p:nvPicPr>
          <p:cNvPr id="191" name="" descr=""/>
          <p:cNvPicPr/>
          <p:nvPr/>
        </p:nvPicPr>
        <p:blipFill>
          <a:blip r:embed="rId1"/>
          <a:stretch/>
        </p:blipFill>
        <p:spPr>
          <a:xfrm>
            <a:off x="1523880" y="2103480"/>
            <a:ext cx="6096240" cy="3413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72086"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91"/>
                    </p:tgtEl>
                  </p:cond>
                </p:stCondLst>
                <p:childTnLst>
                  <p:par>
                    <p:cTn id="14" fill="hold">
                      <p:stCondLst>
                        <p:cond evt="onClick">
                          <p:tgtEl>
                            <p:spTgt spid="19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7:05:58Z</dcterms:created>
  <dc:creator>PhilipFranklin</dc:creator>
  <dc:description/>
  <dc:language>en-US</dc:language>
  <cp:lastModifiedBy>PhilipFranklin</cp:lastModifiedBy>
  <dcterms:modified xsi:type="dcterms:W3CDTF">2009-09-08T12:33:02Z</dcterms:modified>
  <cp:revision>36</cp:revision>
  <dc:subject/>
  <dc:title>Slide 1</dc:title>
</cp:coreProperties>
</file>